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A251-3865-4AC1-ADB9-9F6C12A6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C0E3-14E9-485E-9149-B9439DC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9CBF-2699-43EA-B689-AA375444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7E9C-1237-4E8A-ACCC-5DA7A4E4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58D41-4A66-42A7-8B7C-6969FA27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BDB7-63E3-4B7C-BD0A-87BF9446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6B60-6757-4726-BE1D-01BF9253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0211F-301F-4B5D-8EED-5CC54397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B224-94C3-4F9F-A9B9-8D725D2B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9C70-CE11-4A1E-95C0-1E7F12D6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700D-4B84-4F77-B323-4434191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8FB-E9A3-48D0-8074-2B55205C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BFC55-8B15-43E4-8E3E-6D1B9F44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035D-5AC9-4BF1-A76D-2A6AC46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431F-FFBF-4557-811F-F2122F73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9F26-EFA4-4355-8EF1-4226C20A5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EDB4-9FCD-4B68-A5D2-3A0552FA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15D-1E18-4DEA-9E5B-1D04AE4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A51-DA49-4F97-B590-8CE75D9C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34B-5BE8-4C8D-BF86-7B28B5EA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2DB-7BCD-4526-86E8-2C06649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9324-B75D-4934-876C-0298BCCC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006-74E8-4DC7-84CA-542668A1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E2B4-90F5-4936-8104-E3031943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2C9F-B42B-40D2-B2DC-5330E1E625E8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D315-D418-47AD-822F-1E83F66CDC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9E67-3416-4D38-A933-816B01BAEF8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FA0A-99DD-43D2-9A35-14BA8CC1A9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msdn.microsoft.com/netframework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406600"/>
            <a:ext cx="777240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Building C# Applica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23414-6B96-4F00-A48D-8344260027A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53E9-E4DC-441A-89EA-08437FC956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304920"/>
            <a:ext cx="86868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ompile TestApp.cs into a console application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estApp.exe, change to the directory containing your source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 and enter the following command se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arget:ex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of the C# compiler flags support an abbreviated version, su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/t rather than /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:ex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the /t:exe flag is the default output used by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r, you could also compile TestApp.cs simply by typ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sage of /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t:exe  /out:&lt;*.exe&gt;  &lt;*.cs &gt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t:library /out:&lt;*.dll&gt;  &lt;*.cs 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ADE1-78C6-431A-8005-82BFBE52B74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1312-6390-419A-9312-B0B528699B7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iling Multiple Source Files with csc.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85572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viously we have created a single source file having *.cs. B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metimes most of the projects are composed of multiple *.cs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created an additional class contained in a n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 named HelloMsg.c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28600" y="279396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.Windows.Form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Mess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Speak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Box.Show("Hello...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542A-339D-45E7-9C5C-6B2BC8F5BEB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93E7-5BE5-4B22-A8F4-6EC67BD11A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28600" y="21924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Test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Testing! 1, 2, 3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Message h = new HelloMess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Spea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" y="411480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can compile your C# files by listing each input file explici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r:System.Windows.Forms.dll T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estapp.cs Hellomsg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r:System.Windows.Forms.dll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7AF3-B7CB-4AAC-9140-433C33D4AC8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6DE-BD37-49A7-B636-AAB95B0440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ng Multiple External Assemb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8600" y="838080"/>
            <a:ext cx="8763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to reference numerous external assemblies using csc.ex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y list each assembly using a semicolon-delimited l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:System.Windows.Forms.dll;System.Drawing.dll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146-4DA0-4DD9-AEB2-1DC0BB1930A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664F-D1A4-481E-8FF3-D6831A5071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228600" y="87480"/>
            <a:ext cx="8686800" cy="703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ing with Csc.exe Response Fi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228600" y="1066680"/>
            <a:ext cx="86868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ilding a complex C# application at the command prompt is fu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pain as you type in the flags that specify numerous referenc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ies and *.cs input fi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lessen the typing burden, the C# compiler honors the u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sponse fil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response files contain all the instructions to be used dur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ation of your current build. By convention, these files en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*.rsp (response) ex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1030-3431-4EB5-BF40-BE52E58A50D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E482-F2C4-43B3-BE03-69C6ACB57E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2"/>
          <p:cNvSpPr/>
          <p:nvPr/>
        </p:nvSpPr>
        <p:spPr>
          <a:xfrm>
            <a:off x="152280" y="228600"/>
            <a:ext cx="883944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you have created a response file named TestApp.rs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contains the following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# This is the response file for the TestApp.exe ap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# External assembly referen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r:System.Windows.Forms.d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# output and files to compile (using wildcard syntax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target:exe /out:&lt;filename&gt;.exe &lt;filename&gt;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, assuming this file is saved in the same directory as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urce code files to be compiled, you are able to build your enti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 as follows: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@TestApp.r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need arise, you are also able to specify multiple *.rsp files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put 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sc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@FirstFile.rsp @SecondFile.rsp @ThirdFile.rs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7CE8-6724-43CF-9D74-5C36C356D78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30CA-7318-41D0-B186-8AFCA33545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efault Response File (csc.rsp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28600" y="838080"/>
            <a:ext cx="8686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compiler has an associated default response file (csc.rsp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which is located in the same directory as csc.exe itself (e.g.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:\Windows\Microsoft.NET\Framework\v2.0.50215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open this file using Notepad, you will find that numero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assemblies have already been specified using the /r: fl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presence of the default response file, the current TestApp.ex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 could be successfully compiled using the follo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mand set (as System.Windows.Forms.dll is referenced with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sc.rsp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out:TestApp.exe 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1D50-4B55-4ABF-B092-BB4BD37DCCCE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F1A6-70A7-48EB-8CF9-D2EB9192BEA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nerating Bug Re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228600" y="762120"/>
            <a:ext cx="8763120" cy="32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aw C# compiler provides a helpful flag named /bugrepor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lag allows you to specify a file that will contain vario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tistics regarding your current build; including any erro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countered during the compilation proc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/bugreport:bugs.tx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*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specify /bugreport, you will be prompted to ent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rrective information for the possible errors, will be saved in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 specifi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E8C0-B6CC-4852-B74A-12AAB5C0EC3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C654-9302-4730-9C26-D970C5C9DC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228600" y="304920"/>
            <a:ext cx="8610480" cy="703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aining C# Compiler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28600" y="106668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compiler has many other flags that can be used to contr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ow the resulting .NET assembly is to be genera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., flags exist to build XML source code documentation fil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reate multifile assemblies, and embed .NET resource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ABE-B1E2-4064-AB71-C0C294E121F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E13D-AF1D-4796-8701-5A76B7636D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266760" y="228600"/>
            <a:ext cx="8686800" cy="5854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3255-62D3-4B51-B822-EF3D4B17750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5828-B8ED-4BF0-9D7B-482649CB21F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ing the .NET Framework 2.0 SD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704880"/>
            <a:ext cx="8686800" cy="56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developing the .NET application using c#, the fir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ep is to install the freely downloadable .NET Framework 2.0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ftware Development Kit (SD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have plans to use Visual C# 2005 Express, or Vis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udio 2005, there is no need to manually download or inst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Framework 2.0 SD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are not developing with VS 2005 or Visual C#  2005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press, navigate to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http://msdn.microsoft.com/netframe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search for “.NET Framework 2.0 SDK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completing the installation , development  machine will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figured with the necessary .NET infrastructure, and also no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ain numerous development tools,  a very robust help system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mple code, and tutorials, as well as  various white pa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6A2-FD70-4026-B661-06DFD3BA031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2F0C-C42B-43AB-9293-544BF191A43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5748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9C4-71B7-4C0F-8944-3F6BC366B67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4B47-9826-47EA-B06E-17E5174763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39440" cy="25318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99AA-C0EF-408B-BB7C-CD2769EABFD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DB72-8B2E-4AC4-9F88-80A282005F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8600" y="87480"/>
            <a:ext cx="868680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mand-Line Debugger (cordbg.ex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990720"/>
            <a:ext cx="8686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Framework 2.0 SDK comes with a command-line debug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cordbg.ex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ool provides the options that allows to debug your  assemb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17440" y="2590920"/>
            <a:ext cx="869796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1174680" y="5791320"/>
            <a:ext cx="679644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Handful of Useful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dbg.ex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mand-Line Fl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AFCA-3BE8-4899-9065-19DB4F4A87C6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62E7-F658-41D5-8655-5C2A9B11F4D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228600" y="76320"/>
            <a:ext cx="8763120" cy="91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bugging at the Command 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1143000"/>
            <a:ext cx="8610480" cy="47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you can debug your application using cordbg.exe, the fir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ep is to generate debugging symbols for your current applic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 specifying the /debug flag of csc.ex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o generate debugging data for TestApp.exe, ent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ing command se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@testapp.rsp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/debu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generates a new file named (in this case) testapp.pd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you have generated a *.pdb file, open a session wit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rdbg.exe by specifying your .NET assembly as a command-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rgument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ordbg.exe testapp.ex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4A17-BFE4-4EF8-88A2-96DB5F30106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1D9F-6C98-46D2-A3B4-C1FD5499E6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1678680" y="2286000"/>
            <a:ext cx="5312160" cy="1557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Using the Visual Studio .NET I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&amp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Times New Roman"/>
              </a:rPr>
              <a:t>Other Key Aspects of the VS .NET 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For self-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CC4-D64B-4608-807A-DF2E63DDE78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455A-9114-4544-B6AB-58CC0042B1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# "Preprocessor" Dir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28600" y="838080"/>
            <a:ext cx="86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the use of various symbols that allow you to inter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th the compilation proc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there is no separate preprocessing step. Rather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eprocessing directives are processed as part of the lexical analys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hase of the compil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7080" y="2971800"/>
            <a:ext cx="8915400" cy="3244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9BD-3BDC-454F-9516-4769D80C07D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D095-B6C7-4A7F-8D1E-3C14813B25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ecifying the Code Reg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8600" y="68580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region and #endregion are most used preprocessor direct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se tags, you are able to specify a block of code that ma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 hidden from view and identified by a friendly textual mark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 of region helps to manage the lengthy *.cs f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80880" y="2666880"/>
            <a:ext cx="8534520" cy="393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rocess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Nested types will be examined lat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region Stuff I don't care ab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MyHelper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stuff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erface MyHelper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//stuff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#endreg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E2AE-C077-4612-B84F-1106A5CC58E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62FD-2B8D-44DD-98C4-659308328A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44AC-32C2-46A4-B50E-7B71732D753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C76E-C471-4E7D-AD82-7321F7F7203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Code Comp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28600" y="62712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if, #elif, #else, #endif allows you to conditionally compile a bloc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code based on the predefined symb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these directives is to include additional code which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d only under debug buil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228600" y="2362320"/>
            <a:ext cx="5181480" cy="4143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s Process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Are we in debug mod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#if (DEBU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App directory: {0}"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Environment.CurrentDirector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Box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MachineNa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OS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emnt.OS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.NET Version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#end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5562720" y="2444760"/>
            <a:ext cx="350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you are check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a symbol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BUG. If it is presen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lines wil be compil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the DEBUG symbol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t defined, the co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laced between #if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#endif will no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d in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sulting assembly, and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be igno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2349-CE90-4D0F-BAFB-1F13E9794CA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53A6-CC8D-44DA-B04D-C6AA64E35D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04920" y="2286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ext logical question is where exactly is the DEBUG symbo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? Well, if you wish to define this symbol on a file by f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asis, you are able to make use of the #define preprocess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mbol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04920" y="2133720"/>
            <a:ext cx="8534160" cy="435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#define DEBU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s Process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Are we in debug mod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if (DEBUG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App directory: 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CurrentDirector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Box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MachineNam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OS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emnt.OS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.NET Version:{0}"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vironment.Version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endi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6765-FFFB-4DF3-98D2-483944BBFEBA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7859-AA47-4757-8BCC-F2BC6558E8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36576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directories of the .NET Framework 2.0 SDK Installation R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5F67-081A-4743-AB1A-FDF1BDD35F69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48BA-B299-4836-8DE5-7B79C70F73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ing Warnings and Err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" y="59544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warning and #error preprocessor directives allow you to instr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# compiler to generate a warning or error on the f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ssume that you wish to ensure that when a gi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mbol (such as DEBUG) is defined in the current project,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r warning is issu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380880" y="2703600"/>
            <a:ext cx="84582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re we in debug mod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if (DEBU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warning Beware!Debug is defined...configure release buil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ame code as befor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304920" y="5334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the next compile you will find your custom warning (or erro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using #error) is displayed in the Output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9E46-34E6-4F3A-A078-5EC08DD5FE0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E885-9464-40EB-955C-C87F6953C3B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28600" y="874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ing Line Nu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28600" y="83808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line directive allows you to alter the compiler’s recognition of 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bers during its recording of compilation warnings and err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#line directive allows you to specify the name of a file to dum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iler anomal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eset default line numbering, you must specify the default ta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80880" y="3336840"/>
            <a:ext cx="838224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The warning below will be issued on l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et line number to 3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ine 3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warning "Custom warning on line 3000(for no good reason)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Resume default line number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ine defa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83D6-4A45-4B77-A269-A968A513CBF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87EA-A26C-48C6-8100-BB53A579A12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228600" y="1666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Interesting Aside: The System.Environment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228600" y="91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Environment class allows you to obtain a numb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tails regarding the context of the operating system hosting y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application using various static memb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FD3-F368-4BAC-928B-77931A8971FC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DAAE-F4FF-4794-90E0-4924E2867F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228600" y="152280"/>
            <a:ext cx="8686800" cy="5447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latformS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OS version currently us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rrent os: {0}",Environment.OSVersio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Director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rrent Directory: {0}",Environment.CurrentDirector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Here are the drives on this b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[] drives = Environment.GetLogicalDrives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i=0;i&lt;drives.Length;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Drive {0} : {1}", i, driv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Which version of the .NET platform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rrent Verion of .NET: {0}",Environment.Versio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F1BE-9E18-41FD-9940-050B18AD0C5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60D6-F115-40EA-822E-2E645EA8239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10620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# Command-Line Compiler (csc.ex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4920" y="838080"/>
            <a:ext cx="853416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a number of techniques you may use to compil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ource co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art from using Visual Studio 2005, you are able to create .NE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emblies using the C#  command-line compiler, csc.exe (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-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Sharp Compil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. This tool is  included with the .NET Framewor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2.0 SD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3829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figuring the C# Command-Line Compil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3578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C:\Windows\Microsoft.NET\Framework\v2.0.502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9F32-55D3-4B8D-9491-CCBDFB04ED6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9CDF-CBA6-4293-B5D5-8F220E6D52C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22860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figuring Additional .NET Command-Line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91440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begin to investigate csc.exe, add the following additio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Path variable to the System Variables list bo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:\Program Files\Microsoft Visual Studio 8\SDK\v2.0\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ove directory contains additional command-line tools  that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monly used during .NET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B1A6-209C-44F6-9D92-656F189986A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03DC-D6E7-4FB2-8BB3-D7BB0F89F6C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ilding C# Applications Using csc.ex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990720"/>
            <a:ext cx="868680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development machine recognizes csc.exe, the next goal i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uild a simple single file assembly named TestApp.exe us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# command-line compiler and Notepa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you need some  source code. Open Notepad and ent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foll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309888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 simple C# appli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est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sole.Write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"Testing! 1, 2, 3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FC83-F8FE-49DE-A290-FCBAF8FF1567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28AF-8D89-4222-A22D-0C9FF2868A9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28600" y="1522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to Compile &amp; Run…..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304920" y="990720"/>
            <a:ext cx="853416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e name can be saved using the class name of the program itsel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 can be saved by any name with .cs ex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previous program could be saved by n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estApp.cs or by Test.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 the TestApp.cs in a fol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the Command prompt and move the folder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compiling the program type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csc &lt;filename.cs&gt;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t is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csc TestApp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run the program type &lt;filename&gt;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t is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TestA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0B7E-448A-429C-9833-86417AF2E3FB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799D-8AEA-4D6A-BA74-69456BE3A0A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228600" y="874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ng External Assemb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8600" y="604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examine how to compile an application that makes us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defined in a separate .NET assemb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1467000"/>
            <a:ext cx="868680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.Windows.Form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TestApp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Testing! 1, 2, 3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Box.Show("Hello...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" y="53341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you have made use of the MessageBox class, it is us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rom the System.Windows.Forms.dll assemb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sc /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r:System.Windows.Forms.dll 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stapp1.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9AD8-FA0F-448D-B740-27637C5DB7A1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JNNCE-M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EE9-4879-4D47-A404-0F5E503984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8839080" cy="4191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3"/>
          <p:cNvSpPr/>
          <p:nvPr/>
        </p:nvSpPr>
        <p:spPr>
          <a:xfrm>
            <a:off x="1851120" y="4800600"/>
            <a:ext cx="54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utput-centric Options of the C# Compi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Times New Roman"/>
              </a:rPr>
              <a:t>csc /out:&lt;file.exe&gt; &lt;file.c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5:42:48Z</dcterms:created>
  <dc:creator>Hemanth</dc:creator>
  <dc:description/>
  <dc:language>en-US</dc:language>
  <cp:lastModifiedBy>hemanth</cp:lastModifiedBy>
  <dcterms:modified xsi:type="dcterms:W3CDTF">2014-08-13T18:15:42Z</dcterms:modified>
  <cp:revision>106</cp:revision>
  <dc:subject/>
  <dc:title>Building C# Applications</dc:title>
</cp:coreProperties>
</file>